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C932-C857-4CFF-BD57-7B11150B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469C-936F-4AA6-9158-C70FA58F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F724-ECA0-4DD7-865E-AD5943CD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039F-4CBC-4C33-A8BC-E01F4CCB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8A7C-E9A3-4F6A-A3E0-EDD46ED1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B60-BCDE-4DE2-B83D-D7969632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DA64-CFBE-4F66-8B3C-3E311376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ECBD-483A-4BCC-A6F2-7B1BF5A2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32B3-CF2E-42BE-9D58-623D878C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43C4-C94B-4A4E-B936-788EF27C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B6E2-094E-43C5-97C2-90CE25F9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1121-C531-4057-93A3-DAAE0598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2e"/>
            </a:gs>
            <a:gs pos="50000">
              <a:srgbClr val="00cc66"/>
            </a:gs>
            <a:gs pos="100000">
              <a:srgbClr val="005d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1B96-CD0A-4996-B72A-4D78A8526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2e"/>
            </a:gs>
            <a:gs pos="50000">
              <a:srgbClr val="00cc66"/>
            </a:gs>
            <a:gs pos="100000">
              <a:srgbClr val="005d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172200" y="502884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ыполнила студент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636 г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одан М.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838080"/>
            <a:ext cx="7620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рсональный компьюте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2590920"/>
            <a:ext cx="78487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 здоровье  детей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2e"/>
            </a:gs>
            <a:gs pos="50000">
              <a:srgbClr val="00cc66"/>
            </a:gs>
            <a:gs pos="100000">
              <a:srgbClr val="005d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52280" y="152280"/>
          <a:ext cx="80028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002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8344080" y="228600"/>
          <a:ext cx="79992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44080" y="228600"/>
                    <a:ext cx="7999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28600" y="5638680"/>
          <a:ext cx="80028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638680"/>
                    <a:ext cx="8002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952880" y="4419720"/>
          <a:ext cx="2667240" cy="18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4419720"/>
                    <a:ext cx="26672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562720" y="4724280"/>
          <a:ext cx="373356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62720" y="4724280"/>
                    <a:ext cx="37335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 txBox="1"/>
          <p:nvPr/>
        </p:nvSpPr>
        <p:spPr>
          <a:xfrm>
            <a:off x="2590920" y="533520"/>
            <a:ext cx="3886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сточник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1447920"/>
            <a:ext cx="73915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-Белавина И.Г. // Информатика и образование.1991, №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-Леонова Л.А., Бирюкович А.А., Савватеева С.С. Гигиеническое нормирование длительности развивающего занятия на компьютере типа для детей 6 лет.//Гигиена и санитария.1994,№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- Леонова Л.А. Компьютер и здоровье ребенка. Вентенс – граф, 2004. – 16л.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- Старшова Н.В. Здоровье и компьютер // Детский сад от А до Я, 2003. - №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- Леонова Л.А. Здоровье и компьютер // Информатика и образование, 1997.- №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2e"/>
            </a:gs>
            <a:gs pos="50000">
              <a:srgbClr val="00cc66"/>
            </a:gs>
            <a:gs pos="100000">
              <a:srgbClr val="005d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блемные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влияет компьютер на здоровье ребенка дошкольного возраста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5800" y="4419720"/>
          <a:ext cx="123840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419720"/>
                    <a:ext cx="123840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5013360" y="3922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4267080"/>
            <a:ext cx="518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о обоснованные физиолого – гигиенические требования к режиму занятий и длительности общения с П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1600200"/>
            <a:ext cx="37339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сделать компьютер помощником, а не вредителем для здоровья дет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96080" y="4572000"/>
          <a:ext cx="1238400" cy="18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4572000"/>
                    <a:ext cx="123840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05320" y="914400"/>
          <a:ext cx="2514600" cy="365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914400"/>
                    <a:ext cx="25146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2e"/>
            </a:gs>
            <a:gs pos="50000">
              <a:srgbClr val="00cc66"/>
            </a:gs>
            <a:gs pos="100000">
              <a:srgbClr val="005d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Основные поня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Основное содержание влияния персонального компьютера на здоровье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Вы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Источ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38280" y="457200"/>
            <a:ext cx="4496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дачи :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2e"/>
            </a:gs>
            <a:gs pos="50000">
              <a:srgbClr val="00cc66"/>
            </a:gs>
            <a:gs pos="100000">
              <a:srgbClr val="005d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752480" y="533520"/>
            <a:ext cx="6019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сновные понятия :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66680" y="1600200"/>
            <a:ext cx="216216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Здоровье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1905120"/>
            <a:ext cx="533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о комплекс физического, психического, социального, биологического благополучия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09680" y="3124080"/>
            <a:ext cx="25243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Компьютер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5053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о орудие интеллектуальной деятельност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457200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вильный учет их взаимодействия дает    положительный результат  в формировании интеллектуальных, творческих и технических умений ребенка – дошкольника, его здоровья и благополуч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2e"/>
            </a:gs>
            <a:gs pos="50000">
              <a:srgbClr val="00cc66"/>
            </a:gs>
            <a:gs pos="100000">
              <a:srgbClr val="005d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1580400" y="1660320"/>
            <a:ext cx="6973920" cy="4090320"/>
            <a:chOff x="1580400" y="1660320"/>
            <a:chExt cx="6973920" cy="4090320"/>
          </a:xfrm>
        </p:grpSpPr>
        <p:sp>
          <p:nvSpPr>
            <p:cNvPr id="64" name="_s6166"/>
            <p:cNvSpPr/>
            <p:nvPr/>
          </p:nvSpPr>
          <p:spPr>
            <a:xfrm flipH="1" flipV="1">
              <a:off x="3342960" y="3522600"/>
              <a:ext cx="863280" cy="17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6167"/>
            <p:cNvSpPr/>
            <p:nvPr/>
          </p:nvSpPr>
          <p:spPr>
            <a:xfrm>
              <a:off x="1580400" y="2801880"/>
              <a:ext cx="1809000" cy="110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ФИЗИЧЕСКОЕ РАЗВИТ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6168"/>
            <p:cNvSpPr/>
            <p:nvPr/>
          </p:nvSpPr>
          <p:spPr>
            <a:xfrm flipH="1">
              <a:off x="4002840" y="4308480"/>
              <a:ext cx="533520" cy="44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6169"/>
            <p:cNvSpPr/>
            <p:nvPr/>
          </p:nvSpPr>
          <p:spPr>
            <a:xfrm>
              <a:off x="2566800" y="4649760"/>
              <a:ext cx="1808640" cy="110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ОСТОЯНИЕ ЗДОРОВЬЯ РЕБЕНК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6172"/>
            <p:cNvSpPr/>
            <p:nvPr/>
          </p:nvSpPr>
          <p:spPr>
            <a:xfrm>
              <a:off x="5599440" y="4307760"/>
              <a:ext cx="533160" cy="44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6173"/>
            <p:cNvSpPr/>
            <p:nvPr/>
          </p:nvSpPr>
          <p:spPr>
            <a:xfrm>
              <a:off x="5759640" y="4649760"/>
              <a:ext cx="1808640" cy="110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КОСТНО – МЫШЕЧНАЯ  СИИСТЕМ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6174"/>
            <p:cNvSpPr/>
            <p:nvPr/>
          </p:nvSpPr>
          <p:spPr>
            <a:xfrm flipV="1">
              <a:off x="5926680" y="3521880"/>
              <a:ext cx="863280" cy="17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6175"/>
            <p:cNvSpPr/>
            <p:nvPr/>
          </p:nvSpPr>
          <p:spPr>
            <a:xfrm>
              <a:off x="6745680" y="2801880"/>
              <a:ext cx="1808640" cy="110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СИХОНЕВРОЛОГИЧЕСКОЕ СОСТОЯ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6176"/>
            <p:cNvSpPr/>
            <p:nvPr/>
          </p:nvSpPr>
          <p:spPr>
            <a:xfrm flipV="1">
              <a:off x="5067360" y="2760480"/>
              <a:ext cx="0" cy="55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6177"/>
            <p:cNvSpPr/>
            <p:nvPr/>
          </p:nvSpPr>
          <p:spPr>
            <a:xfrm>
              <a:off x="4163400" y="1660320"/>
              <a:ext cx="1808640" cy="110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ОСТОЯНИЕ  ЛОР -     ОРГАНО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6178"/>
            <p:cNvSpPr/>
            <p:nvPr/>
          </p:nvSpPr>
          <p:spPr>
            <a:xfrm>
              <a:off x="4163400" y="3313080"/>
              <a:ext cx="1808640" cy="110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469800" y="4660920"/>
          <a:ext cx="38916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660920"/>
                    <a:ext cx="38916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 txBox="1"/>
          <p:nvPr/>
        </p:nvSpPr>
        <p:spPr>
          <a:xfrm>
            <a:off x="1752480" y="15228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хема  влияний  компьютер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09680" y="762120"/>
            <a:ext cx="4753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  здоровье  ребен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86200" y="358128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мпьют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2e"/>
            </a:gs>
            <a:gs pos="50000">
              <a:srgbClr val="00cc66"/>
            </a:gs>
            <a:gs pos="100000">
              <a:srgbClr val="005d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980720" y="1219320"/>
            <a:ext cx="67820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следние годы персональные ЭВМ все шире внедряются в учебно – воспитательный процесс детских дошкольных учреж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е педагогическое средство позволяет более эффективно решать поставленные задачи интеллектуального развития ребенка. Однако необходимо помнить о том, что разработка любой инновационной модели должна сопровождаться изучением влияния таких занятий на организм ребенка, на его здоровье (зрение, осан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е самочувств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 rot="5400000">
            <a:off x="-2057760" y="2895840"/>
            <a:ext cx="617220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Влияние 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477120" y="4495680"/>
          <a:ext cx="220968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4495680"/>
                    <a:ext cx="22096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2e"/>
            </a:gs>
            <a:gs pos="50000">
              <a:srgbClr val="00cc66"/>
            </a:gs>
            <a:gs pos="100000">
              <a:srgbClr val="005d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48320" y="2971800"/>
            <a:ext cx="4117680" cy="3468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V="1">
            <a:off x="533520" y="121896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4920" y="228600"/>
            <a:ext cx="5600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лагоприятные  условия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914400"/>
            <a:ext cx="78487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обходимо чтобы занятия проходили в благоприятных условиях внешней среды компьютерного зала и были организованы с учетом научно – обоснованных физиолого-гигиенических требований к режиму занятий и длительности общения с ПК, а также психолого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дагогических требо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компьютер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грамм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2e"/>
            </a:gs>
            <a:gs pos="50000">
              <a:srgbClr val="00cc66"/>
            </a:gs>
            <a:gs pos="100000">
              <a:srgbClr val="005d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4118040" cy="3468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457200"/>
            <a:ext cx="7924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еденные исследования показали, что работа на ПК не влияет на осанку детей в том случае, если занятия проходят в условиях  жесткой регламентации длительности работы и при соблюдении всех гигиенических и эргономических требований к устройству компьютерного зала (его оборудованию и содержанию), при соблюдении эргономических требований к рабочему месту и рабочей позе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2286000"/>
            <a:ext cx="4876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лавной причиной ухудшения осанки дошкольников является нарушение гигиенических требований к организации  учебно-воспитательной работы в детском саду и игнорирование рекомендаций по                           проведению физкультурно-оздоровитель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4267080"/>
            <a:ext cx="380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жную роль играет рациональная организация всего учебно-воспитательного процесса в детском саду, в том числе физкультурно- оздоровительной рабо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2e"/>
            </a:gs>
            <a:gs pos="50000">
              <a:srgbClr val="00cc66"/>
            </a:gs>
            <a:gs pos="100000">
              <a:srgbClr val="005d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724280" y="228600"/>
            <a:ext cx="4118040" cy="3468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0880" y="152388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380880"/>
            <a:ext cx="3124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вод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676520"/>
            <a:ext cx="4267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а на ПК детей 5-6 лет в режиме 15 минут в день 1-2 раза в неделю в ходе 30-минутных развивающих занятий и при соблюдении требований к устройству, оборудованию, условиям среды компьютерного зала и к компьютерным программам не оказывают отрицательного влияния на состояние здоровья дошк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09-05-20T06:42:1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